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E3939-955E-4538-8BBF-CD830467F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F5DE1-7410-4872-BF03-CC0683625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96C74-4541-419A-8CE7-68826E8F5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97D6E-D740-46B4-81F7-7F6218884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35F1F-8A15-4D5F-BDDF-C7DA6142B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50E39-5FF5-426F-9B8C-BD84F6A34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E292D-8924-4793-BB80-DE5280101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D163A-8CD9-4660-A103-AF1009E45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C2E07-3BBA-467C-AA76-DCB721D9F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1E6DE-4313-4B22-B4F4-93E679F4E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D3241-CEE1-4969-8212-608043C84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AB195-DCA9-482A-91FF-73EC84D8E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E3387-D399-4A92-B756-8D0BD6A32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E9EB0-D42E-40B2-B98C-FFBFDAFA1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CF2A3-6D80-4641-8261-AC9ED3169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A79E1-A23F-48B8-A695-97C85C9AC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5E8E3-17EB-4DBE-9279-4922CA1D4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CF7C56-27CE-4B73-9C8C-9E1D18E82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191F68-6F05-422A-9B33-A575C3B39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B427CA-86D0-48C6-8926-78A65561F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A80D43-5D78-45CB-974D-0EDA9F23A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40E3C0-503B-491F-9E09-069405EA5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7A92A-FA51-4F7A-9D77-49884FF00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565A5A-7E29-4F09-8045-BE30F7E54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96DAE4-96B1-49F4-8309-EC9B1FF49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809B25-4F37-44A5-AF73-76383C725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115671-744C-40AB-933D-50A9FD81B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D6CE67-6FD7-4C43-A7AC-859ED609D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3AA81D-A98C-42B3-950D-9A123B377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D353DA-46E9-4378-A9AB-0747BD10A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948ECD-8F12-462C-BE5C-5D5D75F8F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40DA43-CA3B-4BEB-A759-AC3A0289E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45594F-2F05-4874-AF03-8E5C2B200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27B33-0883-451E-8D2E-A7DADE832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9C5130-18A2-46CD-B7BC-95D319D14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9FF649-383F-432E-AE95-C218AC315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066FBB-E880-49DC-8267-1FF1C99ED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C62377-191C-447C-85C9-EFAB20DD2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AC3E2B-B4FA-42BC-B570-EEE653B92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ABA836-4FCE-4059-8EE2-3AABC1776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2CC99D-2315-46C1-867A-8A345B112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4F59CB-8F95-4411-A487-6EE54852F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28A1D7-9C91-4875-8FC6-D93611DB3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008E3-321F-4560-BE96-50C99578D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354D0-CDEF-4AE5-A810-151C630F9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0877E-8761-40D5-BB5A-BE0A685EF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2D5FC-D538-452B-A729-27E8C8810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DA744-9A88-4B6B-A3EE-4744B7699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E0DB84-083B-43F5-B882-F247307160DC}" type="datetime">
              <a:rPr b="0" lang="en-US" sz="1200" spc="-1" strike="noStrike">
                <a:solidFill>
                  <a:srgbClr val="045c75"/>
                </a:solidFill>
                <a:latin typeface="Constanti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2FF6C3E-B9F5-4BEB-9917-277D7D342E0A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21EE653-5805-423E-A5A9-6867B1D9BCD4}" type="datetime">
              <a:rPr b="0" lang="en-US" sz="1200" spc="-1" strike="noStrike">
                <a:solidFill>
                  <a:srgbClr val="d1eaee"/>
                </a:solidFill>
                <a:latin typeface="Constanti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4938C7-B132-4987-8C2C-D5E7ACABF8E2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83CDEB0-DD56-4637-BB72-2C34D87E5914}" type="datetime">
              <a:rPr b="0" lang="en-US" sz="1200" spc="-1" strike="noStrike">
                <a:solidFill>
                  <a:srgbClr val="d1eaee"/>
                </a:solidFill>
                <a:latin typeface="Constanti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20EA0D-7396-48AB-86AE-A5A6D17D06F2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80808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AECCD4-FF12-4485-A777-8FD684F669AD}" type="datetime">
              <a:rPr b="0" lang="en-US" sz="1200" spc="-1" strike="noStrike">
                <a:solidFill>
                  <a:srgbClr val="045c75"/>
                </a:solidFill>
                <a:latin typeface="Constanti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AC5B35-E686-4925-B55B-19CA471BAFA4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iki.esipfed.org/index.php/GEOSS_AIP_AQ_Scenario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1" descr=""/>
          <p:cNvPicPr/>
          <p:nvPr/>
        </p:nvPicPr>
        <p:blipFill>
          <a:blip r:embed="rId2"/>
          <a:stretch/>
        </p:blipFill>
        <p:spPr>
          <a:xfrm>
            <a:off x="530280" y="1365120"/>
            <a:ext cx="7888320" cy="195768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Ellsworth LeDrew (UIC)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Gary Foley (UIC)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Jay Pearlman (UIC and ADC)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Hans-Peter Plag (UIC and ADC)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Rudolf Husar (UIC and ADC)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David McCabe (ADC)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Agenda AM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9:00 Welcome and Introduction  Ellsworth LeDrew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9:15 Overview by UIC Gary Foley and Ellsworth LeDrew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9:45 Overview by ADC Jay Pearlman and Hans-Peter Plag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10:15 Break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(suggest 20 minutes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10:45 Scenario Introduction by David McCabe: The GEOSS AIP Air Quality Scenari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11:25 Development of 'working groups‘ by Rudolf Husar: Users, Applications and the Community of Practice for the Air Quality Scenario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Xx:xx Lunch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Agenda: PM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13:00 </a:t>
            </a:r>
            <a:r>
              <a:rPr b="0" lang="en-CA" sz="2600" spc="-1" strike="noStrike">
                <a:solidFill>
                  <a:srgbClr val="000000"/>
                </a:solidFill>
                <a:latin typeface="Constantia"/>
              </a:rPr>
              <a:t>'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working group' interaction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15:00 Interval assessment Gary Foley Chair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15:30 break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16:00 Re-engage 'working groups'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17:00 Plenary Assessment Ellsworth LeDrew Chair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18:00 End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Resourc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e2d700"/>
                </a:solidFill>
                <a:uFillTx/>
                <a:latin typeface="Constantia"/>
                <a:hlinkClick r:id="rId2"/>
              </a:rPr>
              <a:t>http://wiki.esipfed.org/index.php/GEOSS_AIP_AQ_Scenario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Rudolf B. Husar, (rhusar@me.wustl.edu)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Professor and Directo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Center for Air Pollution Impact and Trend Analysis (CAPITA)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Washington University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1 Brookings Drive, Box 1124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St. Louis, MO 63130314 935 6099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David McCabe (McCabe.David@epamail.epa.gov)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AAAS Science &amp; Technology Policy Fellow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	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US EPA, Office of Research and Development (8104R)1200 Pennsylvania Ave. NW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Washington, DC 20460202 564 0016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Gary Foley?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Objectiv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etermine User Requirements for one of the GEO Societal Benefit Area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valuate the Structure of the Architecture and Data Committee (registry etc) to provide these data in operational environmen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Users range from data collectors, to modelers, to synthesis analysts, to policy wonk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ssess this workshop concept as a model for future workshops on other SBAs or components of SBA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oncep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Overview of one aspect of an SBA – Air Quality (one theme of an upcoming Call for Participation for ADC/UIC activity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Break individual groups into acto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Each actor assume a role in the proces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Data collection analysis, quality control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Modeller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Scenario Builder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Policy analyst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National political decision maker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International political decision maker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Citizen affected by proces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oncept (con’t)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ach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role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dentifies what data is required at that level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Determines how data should be packaged by GE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Determines what is the customer base, what is the ‘chain of information’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ncludes data type, format, unit conversion, time resolution, quality control process, required fields, optional fields (Hans-Peter Plag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OSS User Needs and System Performance Utility: Functional Specifications and Database Structure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oncept (con’t)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eam works through possible decision process to determine whether, if GEO provided the information, the system will work as required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roduct will be entries in tables and a narrative of process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A product would be a list of best practices, one or more of which will be entered into the GEO Best Practice Wiki (wiki.ieee-earth.org) 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4T19:58:12Z</dcterms:created>
  <dc:creator>Ellsworth LeDrew</dc:creator>
  <dc:description/>
  <dc:language>en-US</dc:language>
  <cp:lastModifiedBy>Administrator</cp:lastModifiedBy>
  <dcterms:modified xsi:type="dcterms:W3CDTF">2008-05-09T16:22:51Z</dcterms:modified>
  <cp:revision>14</cp:revision>
  <dc:subject/>
  <dc:title>UIC/ADC Air Quality Scenario Whorkshop</dc:title>
</cp:coreProperties>
</file>